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81BAC-D1A8-429A-9D97-AD15F7B77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EC2EC-110C-45A2-8692-DFB5233F7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E621D-EE63-403B-B1BB-ADDF4074E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0C365-6349-40AC-8597-3631C7BAE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58F70-4E99-4F2C-8443-EF9F5B66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0249F-B03A-46D7-9F0B-766E9F8B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5C1CF-19CA-4244-B2B3-A9A247E7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795E-615B-4347-98EC-E2C729C02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526E6-953F-4410-BFCC-4912BC85F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B8D0-E044-48B1-94A8-AAAA1FCC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D2AEB-DF46-44B4-B208-DD075016D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05AA-76FA-4715-84EC-FDAA27583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81DF-ACA8-405F-B638-0D9CE82AA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i.stanford.edu/projects/cbio/mwiki-internal/images/2/21/OBO-criteria-v7.doc"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bo.sf.net/" TargetMode="External"/><Relationship Id="rId2" Type="http://schemas.openxmlformats.org/officeDocument/2006/relationships/hyperlink" Target="http://obo.sf.net/" TargetMode="External"/><Relationship Id="rId3" Type="http://schemas.openxmlformats.org/officeDocument/2006/relationships/hyperlink" Target="http://obo.sf.net/" TargetMode="External"/><Relationship Id="rId4" Type="http://schemas.openxmlformats.org/officeDocument/2006/relationships/hyperlink" Target="http://obo.sourceforge.net/cgi-bin/detail.cgi?relationship"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need the OBO C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Ashburne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zanna Lewis and Barry Sm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is part of what we agreed to do in the BISTI propos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e will take steps to forge a common set of principles (best practices) and a common methodology for those active in ontology building in the life scienc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6 needs an explicit statement of methodology and criteria in order to do its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citing and original alternative to the wiki/democracy/schemaweb based approaches </a:t>
            </a:r>
            <a:r>
              <a:rPr b="0" lang="en-US" sz="2800" spc="-1" strike="noStrike">
                <a:solidFill>
                  <a:srgbClr val="000000"/>
                </a:solidFill>
                <a:latin typeface="Arial"/>
                <a:ea typeface="Arial"/>
              </a:rPr>
              <a:t>à la CBio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mall reward for those doing good work in science-based ont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bjections have been made to the actual criteria proposed, excep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mmit themselves to conceiving ontology as a </a:t>
            </a:r>
            <a:r>
              <a:rPr b="0" i="1" lang="en-US" sz="3200" spc="-1" strike="noStrike">
                <a:solidFill>
                  <a:srgbClr val="000000"/>
                </a:solidFill>
                <a:latin typeface="Arial"/>
              </a:rPr>
              <a:t>science</a:t>
            </a:r>
            <a:r>
              <a:rPr b="0" lang="en-US" sz="3200" spc="-1" strike="noStrike">
                <a:solidFill>
                  <a:srgbClr val="000000"/>
                </a:solidFill>
                <a:latin typeface="Arial"/>
              </a:rPr>
              <a:t>, not as a </a:t>
            </a:r>
            <a:r>
              <a:rPr b="0" i="1" lang="en-US" sz="3200" spc="-1" strike="noStrike">
                <a:solidFill>
                  <a:srgbClr val="000000"/>
                </a:solidFill>
                <a:latin typeface="Arial"/>
              </a:rPr>
              <a:t>hobb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chieve orthogonalit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ontologies (FMA) can incorporate alternative views or partitions of the same domain (regional partition, structural partitio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ntologies (NCIT) will be Application Ontologies, which commit to maintaining compatibility with Reference Ontologies covering overlapping dom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6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r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 a scientific journal which publishes both high-quality peer-reviewed articles, and some other stuf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but does not distinguish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68">
                                            <p:txEl>
                                              <p:pRg st="3" end="3"/>
                                            </p:txEl>
                                          </p:spTgt>
                                        </p:tgtEl>
                                        <p:attrNameLst>
                                          <p:attrName>style.visibility</p:attrName>
                                        </p:attrNameLst>
                                      </p:cBhvr>
                                      <p:to>
                                        <p:strVal val="visible"/>
                                      </p:to>
                                    </p:set>
                                    <p:animEffect filter="fade" transition="in">
                                      <p:cBhvr additive="repl">
                                        <p:cTn id="7" dur="800"/>
                                        <p:tgtEl>
                                          <p:spTgt spid="68">
                                            <p:txEl>
                                              <p:pRg st="3" end="3"/>
                                            </p:txEl>
                                          </p:spTgt>
                                        </p:tgtEl>
                                      </p:cBhvr>
                                    </p:animEffect>
                                    <p:anim calcmode="lin" valueType="num">
                                      <p:cBhvr additive="repl">
                                        <p:cTn id="8" dur="800" fill="hold"/>
                                        <p:tgtEl>
                                          <p:spTgt spid="68">
                                            <p:txEl>
                                              <p:pRg st="3" end="3"/>
                                            </p:txEl>
                                          </p:spTgt>
                                        </p:tgtEl>
                                        <p:attrNameLst>
                                          <p:attrName>r</p:attrName>
                                        </p:attrNameLst>
                                      </p:cBhvr>
                                      <p:tavLst>
                                        <p:tav tm="0">
                                          <p:val>
                                            <p:strVal val="-90"/>
                                          </p:val>
                                        </p:tav>
                                        <p:tav tm="100000">
                                          <p:val>
                                            <p:strVal val="0"/>
                                          </p:val>
                                        </p:tav>
                                      </p:tavLst>
                                    </p:anim>
                                    <p:anim calcmode="lin" valueType="num">
                                      <p:cBhvr additive="repl">
                                        <p:cTn id="9" dur="800" fill="hold"/>
                                        <p:tgtEl>
                                          <p:spTgt spid="68">
                                            <p:txEl>
                                              <p:pRg st="3" end="3"/>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68">
                                            <p:txEl>
                                              <p:pRg st="3" end="3"/>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8">
                                            <p:txEl>
                                              <p:pRg st="3" end="3"/>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smi.stanford.edu/projects/cbio/mwiki-internal/images/2/21/OBO-criteria-v7.d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98000"/>
            <a:ext cx="8458200" cy="665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ies are developed in collaboration with other OBO core ontologies. When disagreements arise the rationale for these disagreements should be documented, and efforts will be undertaken, for example, within the framework of the Center’s Dissemination Workshops, in order to resolve these disagre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open and available to be used by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in, or can be instantiated in, a common shared syntax. See: </a:t>
            </a: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obo.sf.net</a:t>
            </a:r>
            <a:r>
              <a:rPr b="0" lang="en-US" sz="2000" spc="-1" strike="noStrike" u="sng">
                <a:solidFill>
                  <a:srgbClr val="009999"/>
                </a:solidFill>
                <a:uFillTx/>
                <a:latin typeface="Arial"/>
                <a:hlinkClick r:id="rId3"/>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ossesses a unique identifier spa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rovider has procedures for identifying distinct successive vers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well-docum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a plurality of independent us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clearly specified and clearly delineated con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ncludes textual definitions for all term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uses relations which are unambiguously defined following the pattern of definitions laid down in the </a:t>
            </a:r>
            <a:r>
              <a:rPr b="1" lang="en-US" sz="2000" spc="-1" strike="noStrike" u="sng">
                <a:solidFill>
                  <a:srgbClr val="009999"/>
                </a:solidFill>
                <a:uFillTx/>
                <a:latin typeface="Arial"/>
                <a:hlinkClick r:id="rId4"/>
              </a:rPr>
              <a:t>OBO Relation Ontology</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Relation Ontology</a:t>
            </a:r>
            <a:endParaRPr b="0" lang="en-US" sz="4000" spc="-1" strike="noStrike">
              <a:solidFill>
                <a:srgbClr val="000000"/>
              </a:solidFill>
              <a:latin typeface="Arial"/>
            </a:endParaRPr>
          </a:p>
        </p:txBody>
      </p:sp>
      <p:graphicFrame>
        <p:nvGraphicFramePr>
          <p:cNvPr id="73"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use the OBO Relation Ontology</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ll curators to keep in mind that when </a:t>
            </a:r>
            <a:r>
              <a:rPr b="0" lang="en-US" sz="3200" spc="-1" strike="noStrike">
                <a:solidFill>
                  <a:srgbClr val="000000"/>
                </a:solidFill>
                <a:latin typeface="Arial"/>
              </a:rPr>
              <a:t>	</a:t>
            </a:r>
            <a:r>
              <a:rPr b="0" lang="en-US" sz="3200" spc="-1" strike="noStrike">
                <a:solidFill>
                  <a:srgbClr val="000000"/>
                </a:solidFill>
                <a:latin typeface="Arial"/>
              </a:rPr>
              <a:t>they make e.g.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 is_a B</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ertion in an ontology, they need to remember that this is a statement about </a:t>
            </a:r>
            <a:r>
              <a:rPr b="0" i="1" lang="en-US" sz="3200" spc="-1" strike="noStrike">
                <a:solidFill>
                  <a:srgbClr val="000000"/>
                </a:solidFill>
                <a:latin typeface="Arial"/>
              </a:rPr>
              <a:t>As</a:t>
            </a:r>
            <a:r>
              <a:rPr b="0" lang="en-US" sz="3200" spc="-1" strike="noStrike">
                <a:solidFill>
                  <a:srgbClr val="000000"/>
                </a:solidFill>
                <a:latin typeface="Arial"/>
              </a:rPr>
              <a:t> to the effect that each </a:t>
            </a:r>
            <a:r>
              <a:rPr b="0" i="1" lang="en-US" sz="3200" spc="-1" strike="noStrike">
                <a:solidFill>
                  <a:srgbClr val="000000"/>
                </a:solidFill>
                <a:latin typeface="Arial"/>
              </a:rPr>
              <a:t>A </a:t>
            </a:r>
            <a:r>
              <a:rPr b="0" lang="en-US" sz="3200" spc="-1" strike="noStrike">
                <a:solidFill>
                  <a:srgbClr val="000000"/>
                </a:solidFill>
                <a:latin typeface="Arial"/>
              </a:rPr>
              <a:t>is a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rther criteria will be added over time in order to bring about a gradual improvement in the quality of ontologies included in the OBO c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ident to powered aircraft, other and unspecified, injuring occupant of military aircraft, any rank</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accidental submersion or drowning in water transport accident injuring occupant of other watercraft – cr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79"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erence ontology is analogous to a scientific theory; it seeks to optimize descriptive or representational adequacy to its subject matter to the maximal degree that is compatible with the constraints of computational usefulnes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tion ontology is comparable to an engineering artifact such as a software tool. It is constructed for specific practical purpo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81" name="PlaceHolder 2"/>
          <p:cNvSpPr>
            <a:spLocks noGrp="1"/>
          </p:cNvSpPr>
          <p:nvPr>
            <p:ph/>
          </p:nvPr>
        </p:nvSpPr>
        <p:spPr>
          <a:xfrm>
            <a:off x="-360" y="1600200"/>
            <a:ext cx="8915400" cy="5105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lication ontologies often built afresh for each new task; commonly introducing not only idiosyncrasies of format or logic, but also simplifications or distortions of their subject-matt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solve this problem OBO Core proposes a methodology according to which application ontology development  shoud take place always against the background of a formally robust reference ontology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ll on stairs or ladders in water transport injuring occupant of small boat, unpowered</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ilway accident involving collision with rolling stock and injuring pedal cyclist</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traffic accident involving motor-driven snow vehicle injuring pedestr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_a diseas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of the OBO Core proje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introduce some of the features of scientific peer review into biomedical ontolog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54"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to avoid poisoning of the 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BO ontologies are already designated as OBO Core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ty wanted it – so we need to publish the criter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groups within the Center want to do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new groups without the Center want us to do this (preNCIT, FuGO,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ntirely volunt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 Thesaur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7:52:58Z</dcterms:created>
  <dc:creator>phismith</dc:creator>
  <dc:description/>
  <dc:language>en-US</dc:language>
  <cp:lastModifiedBy>phismith</cp:lastModifiedBy>
  <dcterms:modified xsi:type="dcterms:W3CDTF">2006-03-03T05:36:47Z</dcterms:modified>
  <cp:revision>16</cp:revision>
  <dc:subject/>
  <dc:title>Slide 1</dc:title>
</cp:coreProperties>
</file>